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78EC-7BAD-4047-A2BE-C6D0903401B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8DD2-048F-4F41-84BB-40F335200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8D07-580D-4A58-8BCF-3D764B934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E2E4-3154-42D2-B438-F98AAC662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D44E-59AD-4A31-B525-BA9C36416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47BE-FB0B-47FF-B8D4-A4E3614E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51FF-35D3-45F2-9E2E-77968B73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8D9A-4D0F-4D20-9F93-3F845427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15C0-F9F6-4952-8482-6BB089DB7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784F-8F40-45C7-8E1A-F3E3E657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E49C-F6F0-4185-98EB-D1DAC2D7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77EF-1556-4729-BBEB-8E64F7D0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0100-360C-40CD-95DC-179D115B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651D-D3A5-41AB-950B-78D56C1A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8565-7AD9-496A-9627-BDF11F9E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1C2E-A4D0-4F23-BB3E-70B2DDC6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5D60-5709-4443-A649-529E4D9C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9969-F1CF-44E3-A428-828AD2CA1BD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643120"/>
            <a:ext cx="9144000" cy="147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Verdana"/>
              </a:rPr>
              <a:t>NAMING &amp; FORMULA WRI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4175280" y="1477800"/>
            <a:ext cx="987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b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"/>
          <p:cNvSpPr/>
          <p:nvPr/>
        </p:nvSpPr>
        <p:spPr>
          <a:xfrm flipH="1">
            <a:off x="3505320" y="3809880"/>
            <a:ext cx="9144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4952880" y="380988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676520" y="4952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4648320" y="4952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od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8"/>
          <p:cNvSpPr/>
          <p:nvPr/>
        </p:nvSpPr>
        <p:spPr>
          <a:xfrm>
            <a:off x="4495680" y="2209680"/>
            <a:ext cx="381240" cy="533520"/>
          </a:xfrm>
          <a:prstGeom prst="downArrow">
            <a:avLst>
              <a:gd name="adj1" fmla="val 41667"/>
              <a:gd name="adj2" fmla="val 6164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4123800" y="3241800"/>
            <a:ext cx="9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b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4982040" y="3382920"/>
            <a:ext cx="315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4627800" y="3382920"/>
            <a:ext cx="315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2"/>
          <p:cNvGrpSpPr/>
          <p:nvPr/>
        </p:nvGrpSpPr>
        <p:grpSpPr>
          <a:xfrm>
            <a:off x="5334120" y="2819520"/>
            <a:ext cx="3581280" cy="1258200"/>
            <a:chOff x="5334120" y="2819520"/>
            <a:chExt cx="3581280" cy="1258200"/>
          </a:xfrm>
        </p:grpSpPr>
        <p:sp>
          <p:nvSpPr>
            <p:cNvPr id="200" name="Freeform 13"/>
            <p:cNvSpPr/>
            <p:nvPr/>
          </p:nvSpPr>
          <p:spPr>
            <a:xfrm>
              <a:off x="5334120" y="2819520"/>
              <a:ext cx="1066680" cy="6998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699840"/>
                <a:gd name="textAreaBottom" fmla="*/ 700200 h 699840"/>
              </a:gdLst>
              <a:ahLst/>
              <a:rect l="textAreaLeft" t="textAreaTop" r="textAreaRight" b="textAreaBottom"/>
              <a:pathLst>
                <a:path w="1536" h="1008">
                  <a:moveTo>
                    <a:pt x="0" y="624"/>
                  </a:moveTo>
                  <a:lnTo>
                    <a:pt x="192" y="1008"/>
                  </a:lnTo>
                  <a:lnTo>
                    <a:pt x="1536" y="0"/>
                  </a:lnTo>
                  <a:lnTo>
                    <a:pt x="336" y="624"/>
                  </a:lnTo>
                  <a:lnTo>
                    <a:pt x="192" y="432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4"/>
            <p:cNvSpPr/>
            <p:nvPr/>
          </p:nvSpPr>
          <p:spPr>
            <a:xfrm>
              <a:off x="5927760" y="3160800"/>
              <a:ext cx="2987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eck charge on non-metal ion to see if you need to “un-simplify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15"/>
          <p:cNvSpPr/>
          <p:nvPr/>
        </p:nvSpPr>
        <p:spPr>
          <a:xfrm>
            <a:off x="3809880" y="49528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(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1600200" y="60958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= lead (IV) iod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ffffff"/>
                </a:solidFill>
                <a:latin typeface="Verdana"/>
              </a:rPr>
              <a:t>IONIC COMPOUNDS WITH MULTIVALENT MET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388800" y="99072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1) Nam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1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56647E-006 L 0.01841 -0.06774 E">
                                      <p:cBhvr>
                                        <p:cTn id="410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46821E-006 L -0.075 -0.06659 E">
                                      <p:cBhvr>
                                        <p:cTn id="414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6" dur="2000" fill="hold"/>
                                        <p:tgtEl>
                                          <p:spTgt spid="1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8" dur="2000" fill="hold"/>
                                        <p:tgtEl>
                                          <p:spTgt spid="2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3"/>
          <p:cNvSpPr/>
          <p:nvPr/>
        </p:nvSpPr>
        <p:spPr>
          <a:xfrm>
            <a:off x="2362320" y="22543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pper (II)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"/>
          <p:cNvSpPr/>
          <p:nvPr/>
        </p:nvSpPr>
        <p:spPr>
          <a:xfrm flipH="1">
            <a:off x="3657240" y="2895480"/>
            <a:ext cx="1522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"/>
          <p:cNvSpPr/>
          <p:nvPr/>
        </p:nvSpPr>
        <p:spPr>
          <a:xfrm>
            <a:off x="5715000" y="2895480"/>
            <a:ext cx="1522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2209680" y="4510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4572000" y="4510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3376080" y="4200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5731920" y="4214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3657240" y="4200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6023520" y="4200480"/>
            <a:ext cx="2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3276720" y="5911920"/>
            <a:ext cx="2743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= CuCl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544680" y="990720"/>
            <a:ext cx="63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2) Writing the chemical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2362320" y="22543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pper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(II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7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ffffff"/>
                </a:solidFill>
                <a:latin typeface="Verdana"/>
              </a:rPr>
              <a:t>IONIC COMPOUNDS WITH MULTIVALENT MET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2948E-006 L 0.30313 0.0874 E">
                                      <p:cBhvr>
                                        <p:cTn id="466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36994E-006 L -0.20451 0.08532 E">
                                      <p:cBhvr>
                                        <p:cTn id="470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3853440" y="1870200"/>
            <a:ext cx="1573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3"/>
          <p:cNvSpPr/>
          <p:nvPr/>
        </p:nvSpPr>
        <p:spPr>
          <a:xfrm flipH="1">
            <a:off x="3429000" y="2590920"/>
            <a:ext cx="9144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"/>
          <p:cNvSpPr/>
          <p:nvPr/>
        </p:nvSpPr>
        <p:spPr>
          <a:xfrm>
            <a:off x="4876920" y="25146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676520" y="3809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4648320" y="3809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ulf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1752480" y="591192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= sodium sulf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388800" y="99072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1) Nam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2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ffffff"/>
                </a:solidFill>
                <a:latin typeface="Verdana"/>
              </a:rPr>
              <a:t>IONIC COMPOUNDS WITH </a:t>
            </a:r>
            <a:r>
              <a:rPr b="1" lang="en-CA" sz="2500" spc="-1" strike="noStrike">
                <a:solidFill>
                  <a:srgbClr val="ffff00"/>
                </a:solidFill>
                <a:latin typeface="Verdana"/>
              </a:rPr>
              <a:t>POLYATOMIC</a:t>
            </a:r>
            <a:r>
              <a:rPr b="1" lang="en-CA" sz="2500" spc="-1" strike="noStrike">
                <a:solidFill>
                  <a:srgbClr val="ffffff"/>
                </a:solidFill>
                <a:latin typeface="Verdana"/>
              </a:rPr>
              <a:t> 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3"/>
          <p:cNvSpPr/>
          <p:nvPr/>
        </p:nvSpPr>
        <p:spPr>
          <a:xfrm>
            <a:off x="2666880" y="205740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lcium chl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"/>
          <p:cNvSpPr/>
          <p:nvPr/>
        </p:nvSpPr>
        <p:spPr>
          <a:xfrm flipH="1">
            <a:off x="3733920" y="2833560"/>
            <a:ext cx="4572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"/>
          <p:cNvSpPr/>
          <p:nvPr/>
        </p:nvSpPr>
        <p:spPr>
          <a:xfrm>
            <a:off x="5181480" y="2819520"/>
            <a:ext cx="685800" cy="12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2286000" y="42814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4648320" y="4281480"/>
            <a:ext cx="2743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ClO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3430800" y="3979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5786640" y="3994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3601800" y="39798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5964120" y="3979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2209680" y="5805360"/>
            <a:ext cx="51055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= Ca(ClO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Verdana"/>
              </a:rPr>
              <a:t>3</a:t>
            </a: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544680" y="990720"/>
            <a:ext cx="63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2) Writing the chemical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6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ffffff"/>
                </a:solidFill>
                <a:latin typeface="Verdana"/>
              </a:rPr>
              <a:t>IONIC COMPOUNDS WITH </a:t>
            </a:r>
            <a:r>
              <a:rPr b="1" lang="en-CA" sz="2500" spc="-1" strike="noStrike">
                <a:solidFill>
                  <a:srgbClr val="ffff00"/>
                </a:solidFill>
                <a:latin typeface="Verdana"/>
              </a:rPr>
              <a:t>POLYATOMIC</a:t>
            </a:r>
            <a:r>
              <a:rPr b="1" lang="en-CA" sz="2500" spc="-1" strike="noStrike">
                <a:solidFill>
                  <a:srgbClr val="ffffff"/>
                </a:solidFill>
                <a:latin typeface="Verdana"/>
              </a:rPr>
              <a:t> 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4648320" y="42670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Verdana"/>
              </a:rPr>
              <a:t>(     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02312E-006 L 0.3724 0.10844 E">
                                      <p:cBhvr>
                                        <p:cTn id="52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33526E-006 L -0.19132 0.10243 E">
                                      <p:cBhvr>
                                        <p:cTn id="537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6634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Verdana"/>
              </a:rPr>
              <a:t>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0" y="1827360"/>
            <a:ext cx="890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atomic ions have modified names in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0" y="2595600"/>
          <a:ext cx="9144000" cy="3179880"/>
        </p:xfrm>
        <a:graphic>
          <a:graphicData uri="http://schemas.openxmlformats.org/drawingml/2006/table">
            <a:tbl>
              <a:tblPr/>
              <a:tblGrid>
                <a:gridCol w="2362320"/>
                <a:gridCol w="2895480"/>
                <a:gridCol w="38862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yatomic ion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id anion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</a:tr>
              <a:tr h="620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lf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lfur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lfur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l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hlor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n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arbon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sph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sphor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hosphor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</a:tbl>
          </a:graphicData>
        </a:graphic>
      </p:graphicFrame>
      <p:sp>
        <p:nvSpPr>
          <p:cNvPr id="247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31"/>
          <p:cNvSpPr/>
          <p:nvPr/>
        </p:nvSpPr>
        <p:spPr>
          <a:xfrm>
            <a:off x="5638680" y="990720"/>
            <a:ext cx="420840" cy="609480"/>
          </a:xfrm>
          <a:custGeom>
            <a:avLst/>
            <a:gdLst>
              <a:gd name="textAreaLeft" fmla="*/ 0 w 420840"/>
              <a:gd name="textAreaRight" fmla="*/ 421200 w 4208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728" h="1056">
                <a:moveTo>
                  <a:pt x="288" y="496"/>
                </a:moveTo>
                <a:cubicBezTo>
                  <a:pt x="296" y="472"/>
                  <a:pt x="192" y="288"/>
                  <a:pt x="192" y="208"/>
                </a:cubicBezTo>
                <a:cubicBezTo>
                  <a:pt x="192" y="128"/>
                  <a:pt x="256" y="0"/>
                  <a:pt x="288" y="16"/>
                </a:cubicBezTo>
                <a:cubicBezTo>
                  <a:pt x="320" y="32"/>
                  <a:pt x="368" y="216"/>
                  <a:pt x="384" y="304"/>
                </a:cubicBezTo>
                <a:cubicBezTo>
                  <a:pt x="400" y="392"/>
                  <a:pt x="344" y="552"/>
                  <a:pt x="384" y="544"/>
                </a:cubicBezTo>
                <a:cubicBezTo>
                  <a:pt x="424" y="536"/>
                  <a:pt x="576" y="272"/>
                  <a:pt x="624" y="256"/>
                </a:cubicBezTo>
                <a:cubicBezTo>
                  <a:pt x="672" y="240"/>
                  <a:pt x="704" y="384"/>
                  <a:pt x="672" y="448"/>
                </a:cubicBezTo>
                <a:cubicBezTo>
                  <a:pt x="640" y="512"/>
                  <a:pt x="424" y="560"/>
                  <a:pt x="432" y="640"/>
                </a:cubicBezTo>
                <a:cubicBezTo>
                  <a:pt x="440" y="720"/>
                  <a:pt x="728" y="864"/>
                  <a:pt x="720" y="928"/>
                </a:cubicBezTo>
                <a:cubicBezTo>
                  <a:pt x="712" y="992"/>
                  <a:pt x="448" y="1056"/>
                  <a:pt x="384" y="1024"/>
                </a:cubicBezTo>
                <a:cubicBezTo>
                  <a:pt x="320" y="992"/>
                  <a:pt x="384" y="760"/>
                  <a:pt x="336" y="736"/>
                </a:cubicBezTo>
                <a:cubicBezTo>
                  <a:pt x="288" y="712"/>
                  <a:pt x="144" y="888"/>
                  <a:pt x="96" y="880"/>
                </a:cubicBezTo>
                <a:cubicBezTo>
                  <a:pt x="48" y="872"/>
                  <a:pt x="40" y="728"/>
                  <a:pt x="48" y="688"/>
                </a:cubicBezTo>
                <a:cubicBezTo>
                  <a:pt x="56" y="648"/>
                  <a:pt x="152" y="664"/>
                  <a:pt x="144" y="640"/>
                </a:cubicBezTo>
                <a:cubicBezTo>
                  <a:pt x="136" y="616"/>
                  <a:pt x="0" y="592"/>
                  <a:pt x="0" y="544"/>
                </a:cubicBezTo>
                <a:cubicBezTo>
                  <a:pt x="0" y="496"/>
                  <a:pt x="96" y="360"/>
                  <a:pt x="144" y="352"/>
                </a:cubicBezTo>
                <a:cubicBezTo>
                  <a:pt x="192" y="344"/>
                  <a:pt x="280" y="520"/>
                  <a:pt x="288" y="496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32"/>
          <p:cNvSpPr/>
          <p:nvPr/>
        </p:nvSpPr>
        <p:spPr>
          <a:xfrm>
            <a:off x="2971800" y="1143000"/>
            <a:ext cx="339840" cy="343080"/>
          </a:xfrm>
          <a:custGeom>
            <a:avLst/>
            <a:gdLst>
              <a:gd name="textAreaLeft" fmla="*/ 0 w 339840"/>
              <a:gd name="textAreaRight" fmla="*/ 340200 w 33984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2112" h="2120">
                <a:moveTo>
                  <a:pt x="856" y="800"/>
                </a:moveTo>
                <a:cubicBezTo>
                  <a:pt x="744" y="840"/>
                  <a:pt x="584" y="360"/>
                  <a:pt x="472" y="320"/>
                </a:cubicBezTo>
                <a:cubicBezTo>
                  <a:pt x="360" y="280"/>
                  <a:pt x="160" y="456"/>
                  <a:pt x="184" y="560"/>
                </a:cubicBezTo>
                <a:cubicBezTo>
                  <a:pt x="208" y="664"/>
                  <a:pt x="640" y="792"/>
                  <a:pt x="616" y="944"/>
                </a:cubicBezTo>
                <a:cubicBezTo>
                  <a:pt x="592" y="1096"/>
                  <a:pt x="80" y="1344"/>
                  <a:pt x="40" y="1472"/>
                </a:cubicBezTo>
                <a:cubicBezTo>
                  <a:pt x="0" y="1600"/>
                  <a:pt x="256" y="1768"/>
                  <a:pt x="376" y="1712"/>
                </a:cubicBezTo>
                <a:cubicBezTo>
                  <a:pt x="496" y="1656"/>
                  <a:pt x="624" y="1080"/>
                  <a:pt x="760" y="1136"/>
                </a:cubicBezTo>
                <a:cubicBezTo>
                  <a:pt x="896" y="1192"/>
                  <a:pt x="1032" y="1976"/>
                  <a:pt x="1192" y="2048"/>
                </a:cubicBezTo>
                <a:cubicBezTo>
                  <a:pt x="1352" y="2120"/>
                  <a:pt x="1736" y="1720"/>
                  <a:pt x="1720" y="1568"/>
                </a:cubicBezTo>
                <a:cubicBezTo>
                  <a:pt x="1704" y="1416"/>
                  <a:pt x="1056" y="1200"/>
                  <a:pt x="1096" y="1136"/>
                </a:cubicBezTo>
                <a:cubicBezTo>
                  <a:pt x="1136" y="1072"/>
                  <a:pt x="1816" y="1240"/>
                  <a:pt x="1960" y="1184"/>
                </a:cubicBezTo>
                <a:cubicBezTo>
                  <a:pt x="2104" y="1128"/>
                  <a:pt x="2112" y="848"/>
                  <a:pt x="1960" y="800"/>
                </a:cubicBezTo>
                <a:cubicBezTo>
                  <a:pt x="1808" y="752"/>
                  <a:pt x="1128" y="976"/>
                  <a:pt x="1048" y="896"/>
                </a:cubicBezTo>
                <a:cubicBezTo>
                  <a:pt x="968" y="816"/>
                  <a:pt x="1464" y="456"/>
                  <a:pt x="1480" y="320"/>
                </a:cubicBezTo>
                <a:cubicBezTo>
                  <a:pt x="1496" y="184"/>
                  <a:pt x="1240" y="0"/>
                  <a:pt x="1144" y="80"/>
                </a:cubicBezTo>
                <a:cubicBezTo>
                  <a:pt x="1048" y="160"/>
                  <a:pt x="968" y="760"/>
                  <a:pt x="856" y="800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1827720" y="2362320"/>
            <a:ext cx="1959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4(aq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"/>
          <p:cNvSpPr/>
          <p:nvPr/>
        </p:nvSpPr>
        <p:spPr>
          <a:xfrm>
            <a:off x="2759040" y="3005280"/>
            <a:ext cx="0" cy="25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371600" y="5943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Sulfur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066680" y="6400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XY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457200" y="685800"/>
            <a:ext cx="84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st acids have hydro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6138000" y="2286000"/>
            <a:ext cx="1470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Cl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(aq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9"/>
          <p:cNvSpPr/>
          <p:nvPr/>
        </p:nvSpPr>
        <p:spPr>
          <a:xfrm>
            <a:off x="6873840" y="3005280"/>
            <a:ext cx="0" cy="25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5029200" y="59436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Hydrochlor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1"/>
          <p:cNvSpPr/>
          <p:nvPr/>
        </p:nvSpPr>
        <p:spPr>
          <a:xfrm>
            <a:off x="5181480" y="6400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INARY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122400" y="167652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1) Nam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5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3"/>
          <p:cNvSpPr/>
          <p:nvPr/>
        </p:nvSpPr>
        <p:spPr>
          <a:xfrm>
            <a:off x="2209680" y="2178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romic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4"/>
          <p:cNvSpPr/>
          <p:nvPr/>
        </p:nvSpPr>
        <p:spPr>
          <a:xfrm flipH="1">
            <a:off x="3886200" y="2819520"/>
            <a:ext cx="1905120" cy="15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4116240" y="2819520"/>
            <a:ext cx="1903680" cy="14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4800600" y="4495680"/>
            <a:ext cx="2743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BrO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2438280" y="44956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3598560" y="4262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5954400" y="4290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3769200" y="4276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6115680" y="42768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2"/>
          <p:cNvSpPr/>
          <p:nvPr/>
        </p:nvSpPr>
        <p:spPr>
          <a:xfrm>
            <a:off x="2362320" y="5805360"/>
            <a:ext cx="5257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= HBrO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Verdana"/>
              </a:rPr>
              <a:t>3(aq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544680" y="990720"/>
            <a:ext cx="63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2) Writing the chemical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6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48555E-006 L 0.34965 0.10659 E">
                                      <p:cBhvr>
                                        <p:cTn id="603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33526E-006 L -0.21632 0.10243 E">
                                      <p:cBhvr>
                                        <p:cTn id="607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6324480" y="685800"/>
            <a:ext cx="2819520" cy="6172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ebee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73915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m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7391520" y="2209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7391520" y="2697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t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7391520" y="3154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t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7391520" y="3565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p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7391520" y="4022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hex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7391520" y="4556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hep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7391520" y="50133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o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7391520" y="5440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n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2"/>
          <p:cNvSpPr/>
          <p:nvPr/>
        </p:nvSpPr>
        <p:spPr>
          <a:xfrm>
            <a:off x="7391520" y="5943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de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304920" y="919080"/>
            <a:ext cx="5638680" cy="59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AMING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me both elements (change the ending of the element on the right to “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id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ut prefixes in front of the el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liminate the prefix “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mon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 if it is attached to the first element (the element on the lef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WRITING THE FORMULA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the symbols of the e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vert the prefixes to subscrip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560" y="-3812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MOLECULAR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6"/>
          <p:cNvSpPr/>
          <p:nvPr/>
        </p:nvSpPr>
        <p:spPr>
          <a:xfrm>
            <a:off x="1981080" y="60948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NON-METAL + NON-ME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7"/>
          <p:cNvSpPr/>
          <p:nvPr/>
        </p:nvSpPr>
        <p:spPr>
          <a:xfrm>
            <a:off x="7086600" y="1066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efi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6781680" y="1752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67816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6781680" y="2697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1"/>
          <p:cNvSpPr/>
          <p:nvPr/>
        </p:nvSpPr>
        <p:spPr>
          <a:xfrm>
            <a:off x="6781680" y="3154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2"/>
          <p:cNvSpPr/>
          <p:nvPr/>
        </p:nvSpPr>
        <p:spPr>
          <a:xfrm>
            <a:off x="6781680" y="35654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3"/>
          <p:cNvSpPr/>
          <p:nvPr/>
        </p:nvSpPr>
        <p:spPr>
          <a:xfrm>
            <a:off x="6781680" y="40226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4"/>
          <p:cNvSpPr/>
          <p:nvPr/>
        </p:nvSpPr>
        <p:spPr>
          <a:xfrm>
            <a:off x="6781680" y="455616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5"/>
          <p:cNvSpPr/>
          <p:nvPr/>
        </p:nvSpPr>
        <p:spPr>
          <a:xfrm>
            <a:off x="6781680" y="501336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6781680" y="5440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7"/>
          <p:cNvSpPr/>
          <p:nvPr/>
        </p:nvSpPr>
        <p:spPr>
          <a:xfrm>
            <a:off x="67816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7632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m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76320" y="2286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76320" y="27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t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76320" y="3230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t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76320" y="3641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p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76320" y="4098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hex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76320" y="463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hep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76320" y="5089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o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0"/>
          <p:cNvSpPr/>
          <p:nvPr/>
        </p:nvSpPr>
        <p:spPr>
          <a:xfrm>
            <a:off x="76320" y="5516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n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76320" y="6019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de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0" y="852480"/>
            <a:ext cx="6705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the nam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PCl</a:t>
            </a:r>
            <a:r>
              <a:rPr b="1" lang="en-US" sz="4800" spc="-1" strike="noStrike" baseline="-25000">
                <a:solidFill>
                  <a:srgbClr val="333399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-3812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MOLECULAR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1981080" y="60948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NON-METAL + NON-ME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6"/>
          <p:cNvSpPr/>
          <p:nvPr/>
        </p:nvSpPr>
        <p:spPr>
          <a:xfrm flipH="1">
            <a:off x="3962520" y="16002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7"/>
          <p:cNvSpPr/>
          <p:nvPr/>
        </p:nvSpPr>
        <p:spPr>
          <a:xfrm>
            <a:off x="5334120" y="1600200"/>
            <a:ext cx="17524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8"/>
          <p:cNvSpPr/>
          <p:nvPr/>
        </p:nvSpPr>
        <p:spPr>
          <a:xfrm>
            <a:off x="2743200" y="3505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ospho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9"/>
          <p:cNvSpPr/>
          <p:nvPr/>
        </p:nvSpPr>
        <p:spPr>
          <a:xfrm>
            <a:off x="5867280" y="3505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l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0"/>
          <p:cNvSpPr/>
          <p:nvPr/>
        </p:nvSpPr>
        <p:spPr>
          <a:xfrm>
            <a:off x="7391520" y="3581280"/>
            <a:ext cx="533160" cy="3049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1"/>
          <p:cNvSpPr/>
          <p:nvPr/>
        </p:nvSpPr>
        <p:spPr>
          <a:xfrm>
            <a:off x="7238880" y="3276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2"/>
          <p:cNvSpPr/>
          <p:nvPr/>
        </p:nvSpPr>
        <p:spPr>
          <a:xfrm>
            <a:off x="5867280" y="3505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3886200" y="1066680"/>
            <a:ext cx="25909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8ad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a8ad8"/>
                </a:solidFill>
                <a:latin typeface="Arial"/>
              </a:rPr>
              <a:t>	</a:t>
            </a:r>
            <a:r>
              <a:rPr b="1" lang="en-US" sz="4800" spc="-1" strike="noStrike" baseline="-25000">
                <a:solidFill>
                  <a:srgbClr val="8a8ad8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4"/>
          <p:cNvSpPr/>
          <p:nvPr/>
        </p:nvSpPr>
        <p:spPr>
          <a:xfrm flipH="1">
            <a:off x="2590560" y="1600200"/>
            <a:ext cx="236196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5"/>
          <p:cNvSpPr/>
          <p:nvPr/>
        </p:nvSpPr>
        <p:spPr>
          <a:xfrm>
            <a:off x="5791320" y="1676520"/>
            <a:ext cx="3808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6"/>
          <p:cNvSpPr/>
          <p:nvPr/>
        </p:nvSpPr>
        <p:spPr>
          <a:xfrm>
            <a:off x="1752480" y="419112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RULE #3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liminate the prefix “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mon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” if it is attached to the first element (the element on the lef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27"/>
          <p:cNvSpPr/>
          <p:nvPr/>
        </p:nvSpPr>
        <p:spPr>
          <a:xfrm>
            <a:off x="2286000" y="3581280"/>
            <a:ext cx="838080" cy="3049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8"/>
          <p:cNvSpPr/>
          <p:nvPr/>
        </p:nvSpPr>
        <p:spPr>
          <a:xfrm>
            <a:off x="1981080" y="55627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= phosphorus penta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17919E-006 L 0.22084 0.24417 E">
                                      <p:cBhvr>
                                        <p:cTn id="734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78035E-007 L 0.5875 -0.01988 E">
                                      <p:cBhvr>
                                        <p:cTn id="746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0" y="85248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the formula:  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sulfur tetrox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560" y="-3812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MOLECULAR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1981080" y="60948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NON-METAL + NON-ME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6"/>
          <p:cNvSpPr/>
          <p:nvPr/>
        </p:nvSpPr>
        <p:spPr>
          <a:xfrm>
            <a:off x="4191120" y="1600200"/>
            <a:ext cx="53316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7"/>
          <p:cNvSpPr/>
          <p:nvPr/>
        </p:nvSpPr>
        <p:spPr>
          <a:xfrm>
            <a:off x="3352680" y="31240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8"/>
          <p:cNvSpPr/>
          <p:nvPr/>
        </p:nvSpPr>
        <p:spPr>
          <a:xfrm flipH="1">
            <a:off x="5638680" y="1676520"/>
            <a:ext cx="9907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4724280" y="31384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0"/>
          <p:cNvSpPr/>
          <p:nvPr/>
        </p:nvSpPr>
        <p:spPr>
          <a:xfrm>
            <a:off x="3352680" y="1447920"/>
            <a:ext cx="167652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1"/>
          <p:cNvSpPr/>
          <p:nvPr/>
        </p:nvSpPr>
        <p:spPr>
          <a:xfrm>
            <a:off x="3733920" y="3581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8ad8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2"/>
          <p:cNvSpPr/>
          <p:nvPr/>
        </p:nvSpPr>
        <p:spPr>
          <a:xfrm>
            <a:off x="5562720" y="1600200"/>
            <a:ext cx="38088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3"/>
          <p:cNvSpPr/>
          <p:nvPr/>
        </p:nvSpPr>
        <p:spPr>
          <a:xfrm>
            <a:off x="4572000" y="3581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4"/>
          <p:cNvSpPr/>
          <p:nvPr/>
        </p:nvSpPr>
        <p:spPr>
          <a:xfrm>
            <a:off x="2133720" y="4327560"/>
            <a:ext cx="61722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= </a:t>
            </a:r>
            <a:r>
              <a:rPr b="1" lang="en-US" sz="6000" spc="-1" strike="noStrike">
                <a:solidFill>
                  <a:srgbClr val="333399"/>
                </a:solidFill>
                <a:latin typeface="Verdana"/>
              </a:rPr>
              <a:t>SO</a:t>
            </a:r>
            <a:r>
              <a:rPr b="1" lang="en-US" sz="6000" spc="-1" strike="noStrike" baseline="-25000">
                <a:solidFill>
                  <a:srgbClr val="333399"/>
                </a:solidFill>
                <a:latin typeface="Verdana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5"/>
          <p:cNvSpPr/>
          <p:nvPr/>
        </p:nvSpPr>
        <p:spPr>
          <a:xfrm>
            <a:off x="0" y="5881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ice how “tetroxide” is NOT spelt as tetr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xide. The “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” in the prefix is eliminated when its followed by an “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4" descr="http://kgortney.pbworks.com/f/1288021764/lewis_elements.gif"/>
          <p:cNvPicPr/>
          <p:nvPr/>
        </p:nvPicPr>
        <p:blipFill>
          <a:blip r:embed="rId1">
            <a:lum contrast="6000"/>
          </a:blip>
          <a:srcRect l="2497" t="4192" r="3332" b="3491"/>
          <a:stretch/>
        </p:blipFill>
        <p:spPr>
          <a:xfrm>
            <a:off x="228600" y="1295280"/>
            <a:ext cx="8610480" cy="5029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457200" y="82224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amine the number of valence electrons for each at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457200" y="630864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What do you noti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200" spc="-1" strike="noStrike">
                <a:solidFill>
                  <a:srgbClr val="ffffff"/>
                </a:solidFill>
                <a:latin typeface="Verdana"/>
              </a:rPr>
              <a:t>IONS AND THEIR CHARG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2" descr="http://www.middleschoolchemistry.com/img/content/multimedia/chapter_4/lesson_6/lewis_dot_table_big.jpg"/>
          <p:cNvPicPr/>
          <p:nvPr/>
        </p:nvPicPr>
        <p:blipFill>
          <a:blip r:embed="rId1"/>
          <a:stretch/>
        </p:blipFill>
        <p:spPr>
          <a:xfrm>
            <a:off x="1228680" y="533520"/>
            <a:ext cx="7086600" cy="539892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228600" y="5865840"/>
            <a:ext cx="952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TRE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ements in the same group have the same number of valence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us elements in the same group have similar re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2286000" y="533520"/>
            <a:ext cx="4952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2438280" y="990720"/>
            <a:ext cx="488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amine the number of valence electrons for each at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305000" y="1981080"/>
            <a:ext cx="828720" cy="3875040"/>
          </a:xfrm>
          <a:prstGeom prst="rect">
            <a:avLst/>
          </a:prstGeom>
          <a:solidFill>
            <a:srgbClr val="ff0000">
              <a:alpha val="19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0" y="2209680"/>
            <a:ext cx="129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Verdana"/>
              </a:rPr>
              <a:t>Example: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ll alkali metals have one valence elec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200" spc="-1" strike="noStrike">
                <a:solidFill>
                  <a:srgbClr val="ffffff"/>
                </a:solidFill>
                <a:latin typeface="Verdana"/>
              </a:rPr>
              <a:t>IONS AND THEIR CHARG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5"/>
          <p:cNvSpPr/>
          <p:nvPr/>
        </p:nvSpPr>
        <p:spPr>
          <a:xfrm>
            <a:off x="271440" y="5486400"/>
            <a:ext cx="8720280" cy="15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ements become stable by achieving 8 valence electrons (except for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hydroge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helium, which achieve 2 electron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ble gases are non-reactive because they have 8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is called the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Octet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3"/>
          <p:cNvGrpSpPr/>
          <p:nvPr/>
        </p:nvGrpSpPr>
        <p:grpSpPr>
          <a:xfrm>
            <a:off x="1646280" y="933480"/>
            <a:ext cx="5851440" cy="4459320"/>
            <a:chOff x="1646280" y="933480"/>
            <a:chExt cx="5851440" cy="4459320"/>
          </a:xfrm>
        </p:grpSpPr>
        <p:pic>
          <p:nvPicPr>
            <p:cNvPr id="62" name="Picture 12" descr="http://www.middleschoolchemistry.com/img/content/multimedia/chapter_4/lesson_6/lewis_dot_table_big.jpg"/>
            <p:cNvPicPr/>
            <p:nvPr/>
          </p:nvPicPr>
          <p:blipFill>
            <a:blip r:embed="rId1"/>
            <a:stretch/>
          </p:blipFill>
          <p:spPr>
            <a:xfrm>
              <a:off x="1646280" y="933480"/>
              <a:ext cx="5851440" cy="445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Rectangle 11"/>
            <p:cNvSpPr/>
            <p:nvPr/>
          </p:nvSpPr>
          <p:spPr>
            <a:xfrm>
              <a:off x="2519280" y="933480"/>
              <a:ext cx="4089240" cy="94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Box 1"/>
          <p:cNvSpPr/>
          <p:nvPr/>
        </p:nvSpPr>
        <p:spPr>
          <a:xfrm>
            <a:off x="2209680" y="898560"/>
            <a:ext cx="473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number of valence electrons can determine reactiv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200" spc="-1" strike="noStrike">
                <a:solidFill>
                  <a:srgbClr val="ffffff"/>
                </a:solidFill>
                <a:latin typeface="Verdana"/>
              </a:rPr>
              <a:t>IONS AND THEIR CHARG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3"/>
          <p:cNvGrpSpPr/>
          <p:nvPr/>
        </p:nvGrpSpPr>
        <p:grpSpPr>
          <a:xfrm>
            <a:off x="1066680" y="488880"/>
            <a:ext cx="6858000" cy="5226120"/>
            <a:chOff x="1066680" y="488880"/>
            <a:chExt cx="6858000" cy="5226120"/>
          </a:xfrm>
        </p:grpSpPr>
        <p:pic>
          <p:nvPicPr>
            <p:cNvPr id="67" name="Picture 12" descr="http://www.middleschoolchemistry.com/img/content/multimedia/chapter_4/lesson_6/lewis_dot_table_big.jpg"/>
            <p:cNvPicPr/>
            <p:nvPr/>
          </p:nvPicPr>
          <p:blipFill>
            <a:blip r:embed="rId1"/>
            <a:stretch/>
          </p:blipFill>
          <p:spPr>
            <a:xfrm>
              <a:off x="1066680" y="488880"/>
              <a:ext cx="6858000" cy="522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Rectangle 11"/>
            <p:cNvSpPr/>
            <p:nvPr/>
          </p:nvSpPr>
          <p:spPr>
            <a:xfrm>
              <a:off x="2090520" y="488880"/>
              <a:ext cx="4792680" cy="110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Box 1"/>
          <p:cNvSpPr/>
          <p:nvPr/>
        </p:nvSpPr>
        <p:spPr>
          <a:xfrm>
            <a:off x="1981080" y="898560"/>
            <a:ext cx="495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ow many valence electrons does each atom need to gain or lose to achieve a full oct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1600200" y="1219320"/>
            <a:ext cx="22860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1600200" y="2546280"/>
            <a:ext cx="22860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1676520" y="3841920"/>
            <a:ext cx="228600" cy="34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1600200" y="5060880"/>
            <a:ext cx="22860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152280" y="5703840"/>
            <a:ext cx="1828800" cy="6426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kali metals lose 1 elec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3"/>
          <p:cNvSpPr/>
          <p:nvPr/>
        </p:nvSpPr>
        <p:spPr>
          <a:xfrm flipV="1">
            <a:off x="990720" y="54860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2362320" y="2362320"/>
            <a:ext cx="15228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2590920" y="2514600"/>
            <a:ext cx="15228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2286000" y="3581280"/>
            <a:ext cx="15228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2590920" y="3841920"/>
            <a:ext cx="15228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2286000" y="4984920"/>
            <a:ext cx="15228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9"/>
          <p:cNvSpPr/>
          <p:nvPr/>
        </p:nvSpPr>
        <p:spPr>
          <a:xfrm>
            <a:off x="2514600" y="5137200"/>
            <a:ext cx="15228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2209680" y="5715000"/>
            <a:ext cx="1752840" cy="9169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kali earth metals lose 2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1"/>
          <p:cNvSpPr/>
          <p:nvPr/>
        </p:nvSpPr>
        <p:spPr>
          <a:xfrm flipH="1" flipV="1">
            <a:off x="2514240" y="54860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2"/>
          <p:cNvSpPr/>
          <p:nvPr/>
        </p:nvSpPr>
        <p:spPr>
          <a:xfrm>
            <a:off x="3124080" y="2317680"/>
            <a:ext cx="15264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3"/>
          <p:cNvSpPr/>
          <p:nvPr/>
        </p:nvSpPr>
        <p:spPr>
          <a:xfrm>
            <a:off x="3352680" y="2514600"/>
            <a:ext cx="15264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4"/>
          <p:cNvSpPr/>
          <p:nvPr/>
        </p:nvSpPr>
        <p:spPr>
          <a:xfrm>
            <a:off x="2971800" y="2514600"/>
            <a:ext cx="15228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5"/>
          <p:cNvSpPr/>
          <p:nvPr/>
        </p:nvSpPr>
        <p:spPr>
          <a:xfrm>
            <a:off x="3124080" y="3581280"/>
            <a:ext cx="15264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6"/>
          <p:cNvSpPr/>
          <p:nvPr/>
        </p:nvSpPr>
        <p:spPr>
          <a:xfrm>
            <a:off x="3352680" y="3854520"/>
            <a:ext cx="15264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895480" y="3809880"/>
            <a:ext cx="15264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4191120" y="5715000"/>
            <a:ext cx="2209680" cy="9169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oup 13 elements lose 3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9"/>
          <p:cNvSpPr/>
          <p:nvPr/>
        </p:nvSpPr>
        <p:spPr>
          <a:xfrm flipH="1" flipV="1">
            <a:off x="3200040" y="4190760"/>
            <a:ext cx="2057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0"/>
          <p:cNvSpPr/>
          <p:nvPr/>
        </p:nvSpPr>
        <p:spPr>
          <a:xfrm>
            <a:off x="4038480" y="2317680"/>
            <a:ext cx="15264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1"/>
          <p:cNvSpPr/>
          <p:nvPr/>
        </p:nvSpPr>
        <p:spPr>
          <a:xfrm>
            <a:off x="4191120" y="2546280"/>
            <a:ext cx="15228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2"/>
          <p:cNvSpPr/>
          <p:nvPr/>
        </p:nvSpPr>
        <p:spPr>
          <a:xfrm>
            <a:off x="4038480" y="2851200"/>
            <a:ext cx="15264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3"/>
          <p:cNvSpPr/>
          <p:nvPr/>
        </p:nvSpPr>
        <p:spPr>
          <a:xfrm>
            <a:off x="3809880" y="2546280"/>
            <a:ext cx="15264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4"/>
          <p:cNvSpPr/>
          <p:nvPr/>
        </p:nvSpPr>
        <p:spPr>
          <a:xfrm>
            <a:off x="3962520" y="3613320"/>
            <a:ext cx="15228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5"/>
          <p:cNvSpPr/>
          <p:nvPr/>
        </p:nvSpPr>
        <p:spPr>
          <a:xfrm>
            <a:off x="4191120" y="3917880"/>
            <a:ext cx="15228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6"/>
          <p:cNvSpPr/>
          <p:nvPr/>
        </p:nvSpPr>
        <p:spPr>
          <a:xfrm>
            <a:off x="3962520" y="4146480"/>
            <a:ext cx="15228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7"/>
          <p:cNvSpPr/>
          <p:nvPr/>
        </p:nvSpPr>
        <p:spPr>
          <a:xfrm>
            <a:off x="3733920" y="3841920"/>
            <a:ext cx="15228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6629400" y="5715000"/>
            <a:ext cx="2438280" cy="9169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oup 14 elements lose or gain 4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9"/>
          <p:cNvSpPr/>
          <p:nvPr/>
        </p:nvSpPr>
        <p:spPr>
          <a:xfrm flipH="1" flipV="1">
            <a:off x="4114440" y="4267080"/>
            <a:ext cx="34290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200" spc="-1" strike="noStrike">
                <a:solidFill>
                  <a:srgbClr val="ffffff"/>
                </a:solidFill>
                <a:latin typeface="Verdana"/>
              </a:rPr>
              <a:t>IONS AND THEIR CHARG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3"/>
          <p:cNvGrpSpPr/>
          <p:nvPr/>
        </p:nvGrpSpPr>
        <p:grpSpPr>
          <a:xfrm>
            <a:off x="1066680" y="488880"/>
            <a:ext cx="6858000" cy="5226120"/>
            <a:chOff x="1066680" y="488880"/>
            <a:chExt cx="6858000" cy="5226120"/>
          </a:xfrm>
        </p:grpSpPr>
        <p:pic>
          <p:nvPicPr>
            <p:cNvPr id="104" name="Picture 12" descr="http://www.middleschoolchemistry.com/img/content/multimedia/chapter_4/lesson_6/lewis_dot_table_big.jpg"/>
            <p:cNvPicPr/>
            <p:nvPr/>
          </p:nvPicPr>
          <p:blipFill>
            <a:blip r:embed="rId1"/>
            <a:stretch/>
          </p:blipFill>
          <p:spPr>
            <a:xfrm>
              <a:off x="1066680" y="488880"/>
              <a:ext cx="6858000" cy="522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11"/>
            <p:cNvSpPr/>
            <p:nvPr/>
          </p:nvSpPr>
          <p:spPr>
            <a:xfrm>
              <a:off x="2090520" y="488880"/>
              <a:ext cx="4792680" cy="110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Box 1"/>
          <p:cNvSpPr/>
          <p:nvPr/>
        </p:nvSpPr>
        <p:spPr>
          <a:xfrm>
            <a:off x="1981080" y="898560"/>
            <a:ext cx="495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ow many valence electrons does each atom need to gain or lose to achieve a full oct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7"/>
          <p:cNvSpPr/>
          <p:nvPr/>
        </p:nvSpPr>
        <p:spPr>
          <a:xfrm>
            <a:off x="39625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1600200" y="1219320"/>
            <a:ext cx="22860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1600200" y="2546280"/>
            <a:ext cx="22860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1676520" y="3841920"/>
            <a:ext cx="228600" cy="34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1600200" y="5060880"/>
            <a:ext cx="22860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2362320" y="2362320"/>
            <a:ext cx="15228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2590920" y="2514600"/>
            <a:ext cx="15228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2286000" y="3581280"/>
            <a:ext cx="15228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2590920" y="3841920"/>
            <a:ext cx="15228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>
            <a:off x="2286000" y="4984920"/>
            <a:ext cx="15228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7"/>
          <p:cNvSpPr/>
          <p:nvPr/>
        </p:nvSpPr>
        <p:spPr>
          <a:xfrm>
            <a:off x="2514600" y="5137200"/>
            <a:ext cx="15228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3124080" y="2317680"/>
            <a:ext cx="15264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9"/>
          <p:cNvSpPr/>
          <p:nvPr/>
        </p:nvSpPr>
        <p:spPr>
          <a:xfrm>
            <a:off x="3352680" y="2514600"/>
            <a:ext cx="15264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0"/>
          <p:cNvSpPr/>
          <p:nvPr/>
        </p:nvSpPr>
        <p:spPr>
          <a:xfrm>
            <a:off x="2971800" y="2514600"/>
            <a:ext cx="15228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1"/>
          <p:cNvSpPr/>
          <p:nvPr/>
        </p:nvSpPr>
        <p:spPr>
          <a:xfrm>
            <a:off x="3124080" y="3581280"/>
            <a:ext cx="15264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2"/>
          <p:cNvSpPr/>
          <p:nvPr/>
        </p:nvSpPr>
        <p:spPr>
          <a:xfrm>
            <a:off x="3352680" y="3854520"/>
            <a:ext cx="15264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3"/>
          <p:cNvSpPr/>
          <p:nvPr/>
        </p:nvSpPr>
        <p:spPr>
          <a:xfrm>
            <a:off x="2895480" y="3809880"/>
            <a:ext cx="15264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228600" y="5780160"/>
            <a:ext cx="1981080" cy="8240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roup 14 elements lose or gain 4 electr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5"/>
          <p:cNvSpPr/>
          <p:nvPr/>
        </p:nvSpPr>
        <p:spPr>
          <a:xfrm flipV="1">
            <a:off x="1371600" y="4267080"/>
            <a:ext cx="27432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6"/>
          <p:cNvSpPr/>
          <p:nvPr/>
        </p:nvSpPr>
        <p:spPr>
          <a:xfrm>
            <a:off x="4191120" y="27432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7"/>
          <p:cNvSpPr/>
          <p:nvPr/>
        </p:nvSpPr>
        <p:spPr>
          <a:xfrm>
            <a:off x="3962520" y="28954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8"/>
          <p:cNvSpPr/>
          <p:nvPr/>
        </p:nvSpPr>
        <p:spPr>
          <a:xfrm>
            <a:off x="38862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9"/>
          <p:cNvSpPr/>
          <p:nvPr/>
        </p:nvSpPr>
        <p:spPr>
          <a:xfrm>
            <a:off x="3886200" y="3657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0"/>
          <p:cNvSpPr/>
          <p:nvPr/>
        </p:nvSpPr>
        <p:spPr>
          <a:xfrm>
            <a:off x="4267080" y="40384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1"/>
          <p:cNvSpPr/>
          <p:nvPr/>
        </p:nvSpPr>
        <p:spPr>
          <a:xfrm>
            <a:off x="3886200" y="41911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32"/>
          <p:cNvSpPr/>
          <p:nvPr/>
        </p:nvSpPr>
        <p:spPr>
          <a:xfrm>
            <a:off x="3809880" y="40384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3"/>
          <p:cNvSpPr/>
          <p:nvPr/>
        </p:nvSpPr>
        <p:spPr>
          <a:xfrm>
            <a:off x="4800600" y="28954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4"/>
          <p:cNvSpPr/>
          <p:nvPr/>
        </p:nvSpPr>
        <p:spPr>
          <a:xfrm>
            <a:off x="4648320" y="27432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5"/>
          <p:cNvSpPr/>
          <p:nvPr/>
        </p:nvSpPr>
        <p:spPr>
          <a:xfrm>
            <a:off x="4800600" y="24382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36"/>
          <p:cNvSpPr/>
          <p:nvPr/>
        </p:nvSpPr>
        <p:spPr>
          <a:xfrm>
            <a:off x="4800600" y="41911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37"/>
          <p:cNvSpPr/>
          <p:nvPr/>
        </p:nvSpPr>
        <p:spPr>
          <a:xfrm>
            <a:off x="4648320" y="40384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38"/>
          <p:cNvSpPr/>
          <p:nvPr/>
        </p:nvSpPr>
        <p:spPr>
          <a:xfrm>
            <a:off x="4800600" y="3733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"/>
          <p:cNvSpPr/>
          <p:nvPr/>
        </p:nvSpPr>
        <p:spPr>
          <a:xfrm>
            <a:off x="2286000" y="5780160"/>
            <a:ext cx="1676520" cy="8240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roup 15 elements gain 3 electr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0"/>
          <p:cNvSpPr/>
          <p:nvPr/>
        </p:nvSpPr>
        <p:spPr>
          <a:xfrm flipV="1">
            <a:off x="3124080" y="4343400"/>
            <a:ext cx="16002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41"/>
          <p:cNvSpPr/>
          <p:nvPr/>
        </p:nvSpPr>
        <p:spPr>
          <a:xfrm>
            <a:off x="5638680" y="28954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42"/>
          <p:cNvSpPr/>
          <p:nvPr/>
        </p:nvSpPr>
        <p:spPr>
          <a:xfrm>
            <a:off x="5562720" y="27432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3"/>
          <p:cNvSpPr/>
          <p:nvPr/>
        </p:nvSpPr>
        <p:spPr>
          <a:xfrm>
            <a:off x="5638680" y="41148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44"/>
          <p:cNvSpPr/>
          <p:nvPr/>
        </p:nvSpPr>
        <p:spPr>
          <a:xfrm>
            <a:off x="5562720" y="39625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4038480" y="5780160"/>
            <a:ext cx="1676520" cy="8240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roup 16 elements gain 2 electr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6"/>
          <p:cNvSpPr/>
          <p:nvPr/>
        </p:nvSpPr>
        <p:spPr>
          <a:xfrm flipV="1">
            <a:off x="5334120" y="4343400"/>
            <a:ext cx="3808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47"/>
          <p:cNvSpPr/>
          <p:nvPr/>
        </p:nvSpPr>
        <p:spPr>
          <a:xfrm>
            <a:off x="6553080" y="28954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48"/>
          <p:cNvSpPr/>
          <p:nvPr/>
        </p:nvSpPr>
        <p:spPr>
          <a:xfrm>
            <a:off x="6553080" y="41911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"/>
          <p:cNvSpPr/>
          <p:nvPr/>
        </p:nvSpPr>
        <p:spPr>
          <a:xfrm>
            <a:off x="5791320" y="5780160"/>
            <a:ext cx="1295280" cy="8240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logens gain 1 elec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0"/>
          <p:cNvSpPr/>
          <p:nvPr/>
        </p:nvSpPr>
        <p:spPr>
          <a:xfrm flipH="1" flipV="1">
            <a:off x="6705360" y="4277880"/>
            <a:ext cx="22860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7162920" y="5780160"/>
            <a:ext cx="1676160" cy="8240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ble gases already have a full oct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2"/>
          <p:cNvSpPr/>
          <p:nvPr/>
        </p:nvSpPr>
        <p:spPr>
          <a:xfrm flipH="1" flipV="1">
            <a:off x="7848720" y="4343400"/>
            <a:ext cx="3808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200" spc="-1" strike="noStrike">
                <a:solidFill>
                  <a:srgbClr val="ffffff"/>
                </a:solidFill>
                <a:latin typeface="Verdana"/>
              </a:rPr>
              <a:t>IONS AND THEIR CHARG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1"/>
          <p:cNvSpPr/>
          <p:nvPr/>
        </p:nvSpPr>
        <p:spPr>
          <a:xfrm>
            <a:off x="1216080" y="863640"/>
            <a:ext cx="70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Ion charges based on family/grou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4" descr="http://kgortney.pbworks.com/f/1288021764/lewis_elements.gif"/>
          <p:cNvPicPr/>
          <p:nvPr/>
        </p:nvPicPr>
        <p:blipFill>
          <a:blip r:embed="rId1">
            <a:lum contrast="6000"/>
          </a:blip>
          <a:srcRect l="2497" t="4192" r="3332" b="3491"/>
          <a:stretch/>
        </p:blipFill>
        <p:spPr>
          <a:xfrm>
            <a:off x="762120" y="1371600"/>
            <a:ext cx="7696080" cy="44956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3"/>
          <p:cNvSpPr/>
          <p:nvPr/>
        </p:nvSpPr>
        <p:spPr>
          <a:xfrm>
            <a:off x="839880" y="5943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4"/>
          <p:cNvSpPr/>
          <p:nvPr/>
        </p:nvSpPr>
        <p:spPr>
          <a:xfrm>
            <a:off x="1754280" y="5943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5"/>
          <p:cNvSpPr/>
          <p:nvPr/>
        </p:nvSpPr>
        <p:spPr>
          <a:xfrm>
            <a:off x="2670120" y="5943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6"/>
          <p:cNvSpPr/>
          <p:nvPr/>
        </p:nvSpPr>
        <p:spPr>
          <a:xfrm>
            <a:off x="3737880" y="5938920"/>
            <a:ext cx="71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+/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4727520" y="5948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5641920" y="5948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9"/>
          <p:cNvSpPr/>
          <p:nvPr/>
        </p:nvSpPr>
        <p:spPr>
          <a:xfrm>
            <a:off x="6558120" y="5948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0"/>
          <p:cNvSpPr/>
          <p:nvPr/>
        </p:nvSpPr>
        <p:spPr>
          <a:xfrm>
            <a:off x="7626960" y="59436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200" spc="-1" strike="noStrike">
                <a:solidFill>
                  <a:srgbClr val="ffffff"/>
                </a:solidFill>
                <a:latin typeface="Verdana"/>
              </a:rPr>
              <a:t>IONS AND THEIR CHARG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200" spc="-1" strike="noStrike">
                <a:solidFill>
                  <a:srgbClr val="ffffff"/>
                </a:solidFill>
                <a:latin typeface="Verdana"/>
              </a:rPr>
              <a:t>BINARY IONIC COMPOUN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4023000" y="1695600"/>
            <a:ext cx="1339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g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"/>
          <p:cNvSpPr/>
          <p:nvPr/>
        </p:nvSpPr>
        <p:spPr>
          <a:xfrm flipH="1">
            <a:off x="3505320" y="2362320"/>
            <a:ext cx="9144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"/>
          <p:cNvSpPr/>
          <p:nvPr/>
        </p:nvSpPr>
        <p:spPr>
          <a:xfrm>
            <a:off x="4952880" y="22860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66680" y="358128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gne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4724280" y="3581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hlo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8"/>
          <p:cNvSpPr/>
          <p:nvPr/>
        </p:nvSpPr>
        <p:spPr>
          <a:xfrm flipH="1">
            <a:off x="6324120" y="3809880"/>
            <a:ext cx="762120" cy="228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5334120" y="32004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990720" y="5943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= magnesium chlo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388800" y="99072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1) Nam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4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3"/>
          <p:cNvSpPr/>
          <p:nvPr/>
        </p:nvSpPr>
        <p:spPr>
          <a:xfrm>
            <a:off x="1981080" y="18730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agnesium 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 flipH="1">
            <a:off x="3657600" y="2604960"/>
            <a:ext cx="4572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5410080" y="2514600"/>
            <a:ext cx="381240" cy="13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2209680" y="40528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M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4572000" y="40528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3369960" y="3819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725800" y="3833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3540600" y="3819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5887080" y="38196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6815160" y="44956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Verdana"/>
              </a:rPr>
              <a:t>SIMPLIFY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3276720" y="58672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= M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544680" y="990720"/>
            <a:ext cx="63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2) Writing the chemical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1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200" spc="-1" strike="noStrike">
                <a:solidFill>
                  <a:srgbClr val="ffffff"/>
                </a:solidFill>
                <a:latin typeface="Verdana"/>
              </a:rPr>
              <a:t>BINARY IONIC COMPOUN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31214E-007 L 0.29774 0.1163 E">
                                      <p:cBhvr>
                                        <p:cTn id="358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6.93642E-007 L -0.19323 0.11422 E">
                                      <p:cBhvr>
                                        <p:cTn id="36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8:51:37Z</dcterms:created>
  <dc:creator>User</dc:creator>
  <dc:description/>
  <dc:language>en-US</dc:language>
  <cp:lastModifiedBy>Alan</cp:lastModifiedBy>
  <dcterms:modified xsi:type="dcterms:W3CDTF">2013-09-11T18:33:10Z</dcterms:modified>
  <cp:revision>35</cp:revision>
  <dc:subject/>
  <dc:title>Naming and Formula Writing</dc:title>
</cp:coreProperties>
</file>